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2FD-5E9D-4AC3-BF1F-35B4CEAF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823-8DC8-4EAD-91AB-8C324257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8AA-AAC5-4183-96E0-F5006788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0DA-D764-4E6B-A22B-28BE5661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DB9-6CB4-4D3C-8C7E-7CFB19A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3BF-D159-499E-91A8-BE078C5D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C4C-0ACB-469E-87D0-8051D045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8ED-BEB5-4FFF-9F1E-756C1A6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08F-0564-4761-8DFC-9B89D332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A62-ACEA-400B-9F88-0CD61EA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B56-FB4C-4B00-83D4-35434A2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422-0782-4A4E-8979-6D7A992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415-3F0C-427E-9C0C-80240D32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quake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______ ______ is a measure of the actual energy released from an earthqu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________ intensity scale is a way of measuring earthquakes based on eyewitness and damage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or location directly above an earthquake’s fo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_____ waves are the fastest and are record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_____ waves are slower than p-wave and are recorded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n earthquake with a Richter magnitude of 6.0 releases ________ times more energy than a 5.0 earthqu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Earthquake"/>
          <p:cNvPicPr/>
          <p:nvPr/>
        </p:nvPicPr>
        <p:blipFill>
          <a:blip r:embed="rId1"/>
          <a:stretch/>
        </p:blipFill>
        <p:spPr>
          <a:xfrm>
            <a:off x="0" y="0"/>
            <a:ext cx="2190600" cy="81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457200"/>
            <a:ext cx="20574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1 will be used tw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er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lli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ame of the fault we have here in California where major earthquakes are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______ ______ is a measure of the actual energy released from an 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rthquakes with magnitudes________ usually are not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rthquakes with magnitude _______ can cause severe da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77120" y="42670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934320" y="609480"/>
            <a:ext cx="198108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1 will be used tw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er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0 -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lli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-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And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The_____ is the point in the earth’s interior where earthquake energy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The _______ is the point or location directly above an earthquake’s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he three types of seismic waves are_____, _____, an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______ waves are always recorded first and ______ are always recorded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do we call the time delay between the P and S w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lease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ab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4657680"/>
            <a:ext cx="609588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152280"/>
            <a:ext cx="47242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590920"/>
            <a:ext cx="731520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on ____ is located farther from the epicenter because it has a _____ S-P time del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on is _____ is located c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the epicenter because it has a ______ S-P time delay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The Mercalli and Richter scales can both be used to measure earthquake 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An earthquake with a Richter magnitude of 5.0 releases _____ times more energy than a 7.0 earthquak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271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467480" y="2895480"/>
            <a:ext cx="16765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3170160"/>
            <a:ext cx="6705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out how long did it take for the first P-waves to reach station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bout how long did it take for the first S-waves to reach station 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bout how long did it take for the first P-waves to reach st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bout how long did it take for the first S-waves to reach st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333760" cy="3174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52880" y="0"/>
            <a:ext cx="16765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191120" cy="2210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0" y="2895480"/>
            <a:ext cx="22860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4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 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1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 min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571320" y="723960"/>
            <a:ext cx="2286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riangulation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700600" y="1371600"/>
            <a:ext cx="34434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dius of each circle represents the______ to the epi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 feels and records the earthquak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 feels and records the earthquake 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ic station ____ is 1200 km away from the epi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15228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Bell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36:10Z</dcterms:created>
  <dc:creator>jfuller</dc:creator>
  <dc:description/>
  <dc:language>en-US</dc:language>
  <cp:lastModifiedBy>jfuller</cp:lastModifiedBy>
  <dcterms:modified xsi:type="dcterms:W3CDTF">2011-10-03T15:36:14Z</dcterms:modified>
  <cp:revision>1</cp:revision>
  <dc:subject/>
  <dc:title>Earthquake Makeup Bellwork</dc:title>
</cp:coreProperties>
</file>